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523AF2-1EDB-441C-8A9A-18151B36C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8260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ubstituent număr diapozitiv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1755BA7-5D45-4D1C-A436-CDC1E382F323}" type="slidenum">
              <a:rPr b="0" lang="ro-R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ubstituent antet 4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suggest “</a:t>
            </a:r>
            <a:r>
              <a:rPr b="0" lang="en-US" sz="1200" spc="-1" strike="noStrike">
                <a:solidFill>
                  <a:srgbClr val="c0504d"/>
                </a:solidFill>
                <a:latin typeface="Arial"/>
              </a:rPr>
              <a:t>Based on public-private consultations THROUGH RI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2950-2778-45D8-B2D6-D36E719B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E32B-AE80-4C53-B5D3-6FBCBAD0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F693-DA4A-476E-B512-5943DB61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D0F-F2E2-4B0D-A16D-976EBA769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F75B-66B1-43B5-A503-C0D66B5A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156B-249A-4F59-B259-A6ABCDE0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E9BA-15A8-49BD-ADDE-962074E1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88473-2996-47A3-982C-87660D67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7DC3-F5FD-4E33-B701-18C23281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09723-9E86-4F3D-98D9-2C8F2884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B9C83-D3A4-44CE-BCCD-45009259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8C74-ABB3-4C82-BC95-4FEB98CCE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FE35-AFC4-449F-A964-02D0131D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F36C-92C7-449B-A702-313D0946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EB16-6727-406B-A9F8-8638FA01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2D05A-0922-4EFB-AAD3-670487852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AB2C-EE58-48FE-8567-9DD11F00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0729-4AFD-4E39-B27F-4D60699CE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EA8-C1E2-41FE-B835-421F7C74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10C3-F7AB-48FF-9B26-7EB2E6A2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4CC-2F60-45AB-BE79-6D60979D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AD50-4271-401C-BB1F-E95C895F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28D-257A-4180-ADD2-33827A55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4B2-9442-41C3-8170-7F8C32C5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54D2-B023-4666-B394-99CCF283D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B210-07DD-4943-9B62-A14B30DC34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pi-romania.eu/spi-secretariat/activity-reports/" TargetMode="External"/><Relationship Id="rId3" Type="http://schemas.openxmlformats.org/officeDocument/2006/relationships/hyperlink" Target="http://www.spi-romania.eu/spi-secretariat/activity-reports/" TargetMode="Externa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230880" y="0"/>
            <a:ext cx="2705040" cy="2336760"/>
          </a:xfrm>
          <a:prstGeom prst="rect">
            <a:avLst/>
          </a:prstGeom>
          <a:ln w="0">
            <a:noFill/>
          </a:ln>
        </p:spPr>
      </p:pic>
      <p:sp>
        <p:nvSpPr>
          <p:cNvPr id="90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CD3A-3EA2-4A07-B392-C277D42255BF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68360" y="4868640"/>
            <a:ext cx="8370720" cy="19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Arial"/>
              </a:rPr>
              <a:t>European Banking Federation                               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27</a:t>
            </a:r>
            <a:r>
              <a:rPr b="0" lang="en-US" sz="2400" spc="-1" strike="noStrike" baseline="30000">
                <a:solidFill>
                  <a:srgbClr val="898989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 Meeting of the Associates                                                                     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Brussels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4 December </a:t>
            </a:r>
            <a:r>
              <a:rPr b="0" lang="ro-RO" sz="2000" spc="-1" strike="noStrike">
                <a:solidFill>
                  <a:srgbClr val="898989"/>
                </a:solidFill>
                <a:latin typeface="Arial"/>
              </a:rPr>
              <a:t>2008</a:t>
            </a:r>
            <a:r>
              <a:rPr b="0" lang="ro-RO" sz="3200" spc="-1" strike="noStrike">
                <a:solidFill>
                  <a:srgbClr val="89898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Luigi Passamo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98989"/>
                </a:solidFill>
                <a:latin typeface="Arial"/>
              </a:rPr>
              <a:t>Head, Convergence Program, World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286000"/>
            <a:ext cx="91440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ublic-Privat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South-East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’s Convergence Program SPI Plat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5640" y="2276640"/>
            <a:ext cx="73454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3168720" cy="1177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5280" y="2565360"/>
            <a:ext cx="820908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6521400"/>
            <a:ext cx="47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sion 4 December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480" y="928800"/>
            <a:ext cx="53658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7 SPI Romania Activity</a:t>
            </a:r>
            <a:br>
              <a:rPr sz="2400"/>
            </a:b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</a:t>
            </a:r>
            <a:r>
              <a:rPr b="1" lang="ro-RO" sz="1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ww.spi-romania.eu/spi-secretariat/activity-reports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CasetăText 19"/>
          <p:cNvSpPr/>
          <p:nvPr/>
        </p:nvSpPr>
        <p:spPr>
          <a:xfrm>
            <a:off x="250920" y="1484280"/>
            <a:ext cx="492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ancial Impact of Finalized SPI Projects (€ Mln) – First Ful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ubstituent număr diapozitiv 183"/>
          <p:cNvSpPr/>
          <p:nvPr/>
        </p:nvSpPr>
        <p:spPr>
          <a:xfrm>
            <a:off x="65530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2F62-57A4-4D15-A893-CE2C125E9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6"/>
          <p:cNvSpPr/>
          <p:nvPr/>
        </p:nvSpPr>
        <p:spPr>
          <a:xfrm>
            <a:off x="455760" y="1754280"/>
            <a:ext cx="39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olume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257040" y="6324480"/>
            <a:ext cx="502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Lending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630360" y="2198520"/>
            <a:ext cx="4043160" cy="3834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1"/>
          <p:cNvSpPr/>
          <p:nvPr/>
        </p:nvSpPr>
        <p:spPr>
          <a:xfrm>
            <a:off x="630360" y="2182680"/>
            <a:ext cx="0" cy="384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2"/>
          <p:cNvSpPr/>
          <p:nvPr/>
        </p:nvSpPr>
        <p:spPr>
          <a:xfrm>
            <a:off x="777960" y="5961240"/>
            <a:ext cx="331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3"/>
          <p:cNvSpPr/>
          <p:nvPr/>
        </p:nvSpPr>
        <p:spPr>
          <a:xfrm>
            <a:off x="596880" y="56088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4"/>
          <p:cNvSpPr/>
          <p:nvPr/>
        </p:nvSpPr>
        <p:spPr>
          <a:xfrm>
            <a:off x="596880" y="51832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"/>
          <p:cNvSpPr/>
          <p:nvPr/>
        </p:nvSpPr>
        <p:spPr>
          <a:xfrm>
            <a:off x="596880" y="475920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6"/>
          <p:cNvSpPr/>
          <p:nvPr/>
        </p:nvSpPr>
        <p:spPr>
          <a:xfrm>
            <a:off x="596880" y="433548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7"/>
          <p:cNvSpPr/>
          <p:nvPr/>
        </p:nvSpPr>
        <p:spPr>
          <a:xfrm>
            <a:off x="596880" y="39099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8"/>
          <p:cNvSpPr/>
          <p:nvPr/>
        </p:nvSpPr>
        <p:spPr>
          <a:xfrm>
            <a:off x="596880" y="34862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596880" y="306216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0"/>
          <p:cNvSpPr/>
          <p:nvPr/>
        </p:nvSpPr>
        <p:spPr>
          <a:xfrm>
            <a:off x="596880" y="263844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>
            <a:off x="596880" y="2212920"/>
            <a:ext cx="334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23"/>
          <p:cNvSpPr/>
          <p:nvPr/>
        </p:nvSpPr>
        <p:spPr>
          <a:xfrm>
            <a:off x="630360" y="603252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4"/>
          <p:cNvSpPr/>
          <p:nvPr/>
        </p:nvSpPr>
        <p:spPr>
          <a:xfrm flipV="1">
            <a:off x="63036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5"/>
          <p:cNvSpPr/>
          <p:nvPr/>
        </p:nvSpPr>
        <p:spPr>
          <a:xfrm flipV="1">
            <a:off x="23176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26"/>
          <p:cNvSpPr/>
          <p:nvPr/>
        </p:nvSpPr>
        <p:spPr>
          <a:xfrm flipV="1">
            <a:off x="400212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27"/>
          <p:cNvSpPr/>
          <p:nvPr/>
        </p:nvSpPr>
        <p:spPr>
          <a:xfrm flipV="1">
            <a:off x="4672080" y="603216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480600" y="59706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418680" y="5546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418680" y="51213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418680" y="469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0"/>
          <p:cNvSpPr/>
          <p:nvPr/>
        </p:nvSpPr>
        <p:spPr>
          <a:xfrm>
            <a:off x="418680" y="42735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1"/>
          <p:cNvSpPr/>
          <p:nvPr/>
        </p:nvSpPr>
        <p:spPr>
          <a:xfrm>
            <a:off x="418680" y="3848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2"/>
          <p:cNvSpPr/>
          <p:nvPr/>
        </p:nvSpPr>
        <p:spPr>
          <a:xfrm>
            <a:off x="418680" y="3425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3"/>
          <p:cNvSpPr/>
          <p:nvPr/>
        </p:nvSpPr>
        <p:spPr>
          <a:xfrm>
            <a:off x="418680" y="30002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4"/>
          <p:cNvSpPr/>
          <p:nvPr/>
        </p:nvSpPr>
        <p:spPr>
          <a:xfrm>
            <a:off x="418680" y="25765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5"/>
          <p:cNvSpPr/>
          <p:nvPr/>
        </p:nvSpPr>
        <p:spPr>
          <a:xfrm>
            <a:off x="418680" y="2152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7"/>
          <p:cNvSpPr/>
          <p:nvPr/>
        </p:nvSpPr>
        <p:spPr>
          <a:xfrm>
            <a:off x="620280" y="61246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8"/>
          <p:cNvSpPr/>
          <p:nvPr/>
        </p:nvSpPr>
        <p:spPr>
          <a:xfrm>
            <a:off x="22201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9"/>
          <p:cNvSpPr/>
          <p:nvPr/>
        </p:nvSpPr>
        <p:spPr>
          <a:xfrm>
            <a:off x="390456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0"/>
          <p:cNvSpPr/>
          <p:nvPr/>
        </p:nvSpPr>
        <p:spPr>
          <a:xfrm>
            <a:off x="4574520" y="612468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3"/>
          <p:cNvSpPr/>
          <p:nvPr/>
        </p:nvSpPr>
        <p:spPr>
          <a:xfrm flipV="1">
            <a:off x="660240" y="5033520"/>
            <a:ext cx="925560" cy="98892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4"/>
          <p:cNvSpPr/>
          <p:nvPr/>
        </p:nvSpPr>
        <p:spPr>
          <a:xfrm>
            <a:off x="1688760" y="3664080"/>
            <a:ext cx="99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bit Instrument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5"/>
          <p:cNvSpPr/>
          <p:nvPr/>
        </p:nvSpPr>
        <p:spPr>
          <a:xfrm>
            <a:off x="1324080" y="3521160"/>
            <a:ext cx="25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6"/>
          <p:cNvSpPr/>
          <p:nvPr/>
        </p:nvSpPr>
        <p:spPr>
          <a:xfrm>
            <a:off x="2795760" y="334008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7"/>
          <p:cNvSpPr/>
          <p:nvPr/>
        </p:nvSpPr>
        <p:spPr>
          <a:xfrm>
            <a:off x="2368440" y="2793960"/>
            <a:ext cx="338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8"/>
          <p:cNvSpPr/>
          <p:nvPr/>
        </p:nvSpPr>
        <p:spPr>
          <a:xfrm>
            <a:off x="860760" y="5791320"/>
            <a:ext cx="801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Safe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9"/>
          <p:cNvSpPr/>
          <p:nvPr/>
        </p:nvSpPr>
        <p:spPr>
          <a:xfrm>
            <a:off x="1439280" y="324468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nk 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61"/>
          <p:cNvSpPr/>
          <p:nvPr/>
        </p:nvSpPr>
        <p:spPr>
          <a:xfrm>
            <a:off x="723960" y="5910120"/>
            <a:ext cx="60120" cy="71640"/>
          </a:xfrm>
          <a:prstGeom prst="pie">
            <a:avLst/>
          </a:prstGeom>
          <a:solidFill>
            <a:srgbClr val="00ff00"/>
          </a:solidFill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65"/>
          <p:cNvSpPr/>
          <p:nvPr/>
        </p:nvSpPr>
        <p:spPr>
          <a:xfrm flipV="1">
            <a:off x="1590840" y="3578400"/>
            <a:ext cx="41040" cy="1420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66"/>
          <p:cNvSpPr/>
          <p:nvPr/>
        </p:nvSpPr>
        <p:spPr>
          <a:xfrm flipV="1">
            <a:off x="1611360" y="3460320"/>
            <a:ext cx="181080" cy="133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7"/>
          <p:cNvSpPr/>
          <p:nvPr/>
        </p:nvSpPr>
        <p:spPr>
          <a:xfrm flipV="1">
            <a:off x="2720880" y="2889360"/>
            <a:ext cx="0" cy="5112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69"/>
          <p:cNvSpPr/>
          <p:nvPr/>
        </p:nvSpPr>
        <p:spPr>
          <a:xfrm flipV="1">
            <a:off x="1806480" y="3403440"/>
            <a:ext cx="912960" cy="5256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9"/>
          <p:cNvSpPr/>
          <p:nvPr/>
        </p:nvSpPr>
        <p:spPr>
          <a:xfrm>
            <a:off x="1558800" y="5000760"/>
            <a:ext cx="93960" cy="7452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30"/>
          <p:cNvSpPr/>
          <p:nvPr/>
        </p:nvSpPr>
        <p:spPr>
          <a:xfrm flipH="1">
            <a:off x="1596240" y="3699000"/>
            <a:ext cx="8244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31"/>
          <p:cNvSpPr/>
          <p:nvPr/>
        </p:nvSpPr>
        <p:spPr>
          <a:xfrm>
            <a:off x="1585800" y="3527280"/>
            <a:ext cx="57240" cy="828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2"/>
          <p:cNvSpPr/>
          <p:nvPr/>
        </p:nvSpPr>
        <p:spPr>
          <a:xfrm>
            <a:off x="1774800" y="3416400"/>
            <a:ext cx="66600" cy="6336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3"/>
          <p:cNvSpPr/>
          <p:nvPr/>
        </p:nvSpPr>
        <p:spPr>
          <a:xfrm>
            <a:off x="2695680" y="3373560"/>
            <a:ext cx="56880" cy="540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4"/>
          <p:cNvSpPr/>
          <p:nvPr/>
        </p:nvSpPr>
        <p:spPr>
          <a:xfrm>
            <a:off x="2695680" y="2867040"/>
            <a:ext cx="56880" cy="52200"/>
          </a:xfrm>
          <a:prstGeom prst="pie">
            <a:avLst/>
          </a:prstGeom>
          <a:solidFill>
            <a:srgbClr val="00ff00"/>
          </a:solidFill>
          <a:ln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75"/>
          <p:cNvSpPr/>
          <p:nvPr/>
        </p:nvSpPr>
        <p:spPr>
          <a:xfrm rot="16200000">
            <a:off x="-2206080" y="3906720"/>
            <a:ext cx="468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8"/>
          <p:cNvSpPr/>
          <p:nvPr/>
        </p:nvSpPr>
        <p:spPr>
          <a:xfrm rot="5400000">
            <a:off x="3799080" y="4442400"/>
            <a:ext cx="285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ost Savings Impact (% of 2007 targ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80"/>
          <p:cNvSpPr/>
          <p:nvPr/>
        </p:nvSpPr>
        <p:spPr>
          <a:xfrm>
            <a:off x="776160" y="1700280"/>
            <a:ext cx="4029120" cy="331560"/>
          </a:xfrm>
          <a:prstGeom prst="rightArrow">
            <a:avLst>
              <a:gd name="adj1" fmla="val 50000"/>
              <a:gd name="adj2" fmla="val 3038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82"/>
          <p:cNvSpPr/>
          <p:nvPr/>
        </p:nvSpPr>
        <p:spPr>
          <a:xfrm rot="16200000">
            <a:off x="3294000" y="3887280"/>
            <a:ext cx="3848040" cy="425520"/>
          </a:xfrm>
          <a:prstGeom prst="rightArrow">
            <a:avLst>
              <a:gd name="adj1" fmla="val 50000"/>
              <a:gd name="adj2" fmla="val 226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83"/>
          <p:cNvSpPr/>
          <p:nvPr/>
        </p:nvSpPr>
        <p:spPr>
          <a:xfrm>
            <a:off x="4575240" y="2744640"/>
            <a:ext cx="57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8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84"/>
          <p:cNvSpPr/>
          <p:nvPr/>
        </p:nvSpPr>
        <p:spPr>
          <a:xfrm>
            <a:off x="636480" y="6027840"/>
            <a:ext cx="405288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85"/>
          <p:cNvSpPr/>
          <p:nvPr/>
        </p:nvSpPr>
        <p:spPr>
          <a:xfrm flipV="1">
            <a:off x="1111320" y="5920920"/>
            <a:ext cx="201600" cy="165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86"/>
          <p:cNvSpPr/>
          <p:nvPr/>
        </p:nvSpPr>
        <p:spPr>
          <a:xfrm flipH="1">
            <a:off x="1306080" y="5904000"/>
            <a:ext cx="11160" cy="2746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87"/>
          <p:cNvSpPr/>
          <p:nvPr/>
        </p:nvSpPr>
        <p:spPr>
          <a:xfrm flipV="1">
            <a:off x="1309680" y="5973840"/>
            <a:ext cx="223920" cy="2016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89"/>
          <p:cNvSpPr/>
          <p:nvPr/>
        </p:nvSpPr>
        <p:spPr>
          <a:xfrm>
            <a:off x="2716200" y="2894040"/>
            <a:ext cx="1962000" cy="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93"/>
          <p:cNvSpPr/>
          <p:nvPr/>
        </p:nvSpPr>
        <p:spPr>
          <a:xfrm>
            <a:off x="189000" y="274644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504d"/>
                </a:solidFill>
                <a:latin typeface="Arial"/>
              </a:rPr>
              <a:t>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94"/>
          <p:cNvSpPr/>
          <p:nvPr/>
        </p:nvSpPr>
        <p:spPr>
          <a:xfrm flipV="1">
            <a:off x="2816280" y="6024240"/>
            <a:ext cx="0" cy="33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95"/>
          <p:cNvSpPr/>
          <p:nvPr/>
        </p:nvSpPr>
        <p:spPr>
          <a:xfrm>
            <a:off x="604800" y="2881440"/>
            <a:ext cx="3492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Conector drept 170"/>
          <p:cNvSpPr/>
          <p:nvPr/>
        </p:nvSpPr>
        <p:spPr>
          <a:xfrm>
            <a:off x="627120" y="3875040"/>
            <a:ext cx="2185920" cy="21686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Conector drept 171"/>
          <p:cNvSpPr/>
          <p:nvPr/>
        </p:nvSpPr>
        <p:spPr>
          <a:xfrm>
            <a:off x="638280" y="2506680"/>
            <a:ext cx="3671640" cy="3500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CasetăText 95"/>
          <p:cNvSpPr/>
          <p:nvPr/>
        </p:nvSpPr>
        <p:spPr>
          <a:xfrm rot="2788800">
            <a:off x="1830240" y="465192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M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Conector drept 173"/>
          <p:cNvSpPr/>
          <p:nvPr/>
        </p:nvSpPr>
        <p:spPr>
          <a:xfrm>
            <a:off x="2011320" y="2205000"/>
            <a:ext cx="2641680" cy="26082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CasetăText 100"/>
          <p:cNvSpPr/>
          <p:nvPr/>
        </p:nvSpPr>
        <p:spPr>
          <a:xfrm rot="2788800">
            <a:off x="2630160" y="4056480"/>
            <a:ext cx="115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Ju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7"/>
          <p:cNvSpPr/>
          <p:nvPr/>
        </p:nvSpPr>
        <p:spPr>
          <a:xfrm flipH="1" flipV="1">
            <a:off x="2752200" y="2899440"/>
            <a:ext cx="1782000" cy="9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setăText 176"/>
          <p:cNvSpPr/>
          <p:nvPr/>
        </p:nvSpPr>
        <p:spPr>
          <a:xfrm>
            <a:off x="4148280" y="6035760"/>
            <a:ext cx="50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2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setăText 104"/>
          <p:cNvSpPr/>
          <p:nvPr/>
        </p:nvSpPr>
        <p:spPr>
          <a:xfrm>
            <a:off x="3746520" y="2637000"/>
            <a:ext cx="121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CasetăText 91"/>
          <p:cNvSpPr/>
          <p:nvPr/>
        </p:nvSpPr>
        <p:spPr>
          <a:xfrm>
            <a:off x="1490760" y="6093000"/>
            <a:ext cx="45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90"/>
          <p:cNvSpPr/>
          <p:nvPr/>
        </p:nvSpPr>
        <p:spPr>
          <a:xfrm flipH="1">
            <a:off x="4500720" y="2203560"/>
            <a:ext cx="41040" cy="3835440"/>
          </a:xfrm>
          <a:prstGeom prst="line">
            <a:avLst/>
          </a:prstGeom>
          <a:ln w="0">
            <a:solidFill>
              <a:srgbClr val="000000"/>
            </a:solidFill>
            <a:prstDash val="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77"/>
          <p:cNvSpPr/>
          <p:nvPr/>
        </p:nvSpPr>
        <p:spPr>
          <a:xfrm>
            <a:off x="4214880" y="1943280"/>
            <a:ext cx="5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c00000"/>
                </a:solidFill>
                <a:latin typeface="Arial"/>
              </a:rPr>
              <a:t>9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1"/>
          <p:cNvSpPr/>
          <p:nvPr/>
        </p:nvSpPr>
        <p:spPr>
          <a:xfrm flipH="1" flipV="1">
            <a:off x="4486320" y="2846520"/>
            <a:ext cx="77760" cy="55440"/>
          </a:xfrm>
          <a:prstGeom prst="pie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52"/>
          <p:cNvSpPr/>
          <p:nvPr/>
        </p:nvSpPr>
        <p:spPr>
          <a:xfrm>
            <a:off x="1671840" y="4979880"/>
            <a:ext cx="1108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i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CasetăText 88"/>
          <p:cNvSpPr/>
          <p:nvPr/>
        </p:nvSpPr>
        <p:spPr>
          <a:xfrm rot="2788800">
            <a:off x="903960" y="5241240"/>
            <a:ext cx="115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December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CasetăText 100"/>
          <p:cNvSpPr/>
          <p:nvPr/>
        </p:nvSpPr>
        <p:spPr>
          <a:xfrm rot="2788800">
            <a:off x="3458160" y="32396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0c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CasetăText 4"/>
          <p:cNvSpPr/>
          <p:nvPr/>
        </p:nvSpPr>
        <p:spPr>
          <a:xfrm>
            <a:off x="6219720" y="1062000"/>
            <a:ext cx="27860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otal number of projects: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pdated October 2008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elf regulatory action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ion of positive information   sha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budsm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tgage loan servicing and loss given default  datab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sumer financial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FI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exposures stress testing                   tech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comp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-processing of debi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L Law Amend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ural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gulatory changes unde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goods safeguard, values and persons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RS loan loss provisio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posals to be completed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on bank letters of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oland Berger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Aband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dit rating agen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Oval 180"/>
          <p:cNvGrpSpPr/>
          <p:nvPr/>
        </p:nvGrpSpPr>
        <p:grpSpPr>
          <a:xfrm>
            <a:off x="5867280" y="1628640"/>
            <a:ext cx="382680" cy="378000"/>
            <a:chOff x="5867280" y="1628640"/>
            <a:chExt cx="382680" cy="378000"/>
          </a:xfrm>
        </p:grpSpPr>
        <p:pic>
          <p:nvPicPr>
            <p:cNvPr id="285" name="Oval 180" descr=""/>
            <p:cNvPicPr/>
            <p:nvPr/>
          </p:nvPicPr>
          <p:blipFill>
            <a:blip r:embed="rId4"/>
            <a:stretch/>
          </p:blipFill>
          <p:spPr>
            <a:xfrm>
              <a:off x="5867280" y="162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931000" y="169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Oval 181"/>
          <p:cNvGrpSpPr/>
          <p:nvPr/>
        </p:nvGrpSpPr>
        <p:grpSpPr>
          <a:xfrm>
            <a:off x="5867280" y="5486400"/>
            <a:ext cx="384120" cy="384120"/>
            <a:chOff x="5867280" y="5486400"/>
            <a:chExt cx="384120" cy="384120"/>
          </a:xfrm>
        </p:grpSpPr>
        <p:pic>
          <p:nvPicPr>
            <p:cNvPr id="288" name="Oval 181" descr=""/>
            <p:cNvPicPr/>
            <p:nvPr/>
          </p:nvPicPr>
          <p:blipFill>
            <a:blip r:embed="rId5"/>
            <a:stretch/>
          </p:blipFill>
          <p:spPr>
            <a:xfrm>
              <a:off x="5867280" y="5486400"/>
              <a:ext cx="38412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33160" y="5550120"/>
              <a:ext cx="25272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Oval 182"/>
          <p:cNvGrpSpPr/>
          <p:nvPr/>
        </p:nvGrpSpPr>
        <p:grpSpPr>
          <a:xfrm>
            <a:off x="5867280" y="4724280"/>
            <a:ext cx="389160" cy="378000"/>
            <a:chOff x="5867280" y="4724280"/>
            <a:chExt cx="389160" cy="378000"/>
          </a:xfrm>
        </p:grpSpPr>
        <p:pic>
          <p:nvPicPr>
            <p:cNvPr id="291" name="Oval 182" descr=""/>
            <p:cNvPicPr/>
            <p:nvPr/>
          </p:nvPicPr>
          <p:blipFill>
            <a:blip r:embed="rId6"/>
            <a:stretch/>
          </p:blipFill>
          <p:spPr>
            <a:xfrm>
              <a:off x="5867280" y="4724280"/>
              <a:ext cx="38916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932440" y="4785840"/>
              <a:ext cx="25776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Dreptunghi 93"/>
          <p:cNvSpPr/>
          <p:nvPr/>
        </p:nvSpPr>
        <p:spPr>
          <a:xfrm>
            <a:off x="5791320" y="990720"/>
            <a:ext cx="3214440" cy="5214960"/>
          </a:xfrm>
          <a:prstGeom prst="rect">
            <a:avLst/>
          </a:prstGeom>
          <a:noFill/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Oval 94"/>
          <p:cNvGrpSpPr/>
          <p:nvPr/>
        </p:nvGrpSpPr>
        <p:grpSpPr>
          <a:xfrm>
            <a:off x="5867280" y="4005360"/>
            <a:ext cx="382680" cy="377640"/>
            <a:chOff x="5867280" y="4005360"/>
            <a:chExt cx="382680" cy="377640"/>
          </a:xfrm>
        </p:grpSpPr>
        <p:pic>
          <p:nvPicPr>
            <p:cNvPr id="295" name="Oval 94" descr=""/>
            <p:cNvPicPr/>
            <p:nvPr/>
          </p:nvPicPr>
          <p:blipFill>
            <a:blip r:embed="rId7"/>
            <a:stretch/>
          </p:blipFill>
          <p:spPr>
            <a:xfrm>
              <a:off x="5867280" y="4005360"/>
              <a:ext cx="38268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5930640" y="4067280"/>
              <a:ext cx="25272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400" spc="-1" strike="noStrike">
                  <a:solidFill>
                    <a:srgbClr val="ffffff"/>
                  </a:solidFill>
                  <a:latin typeface="Wingdings 3"/>
                  <a:ea typeface="Wingdings 3"/>
                </a:rPr>
                <a:t>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Oval 180"/>
          <p:cNvGrpSpPr/>
          <p:nvPr/>
        </p:nvGrpSpPr>
        <p:grpSpPr>
          <a:xfrm>
            <a:off x="5796000" y="3068640"/>
            <a:ext cx="382680" cy="378000"/>
            <a:chOff x="5796000" y="3068640"/>
            <a:chExt cx="382680" cy="378000"/>
          </a:xfrm>
        </p:grpSpPr>
        <p:pic>
          <p:nvPicPr>
            <p:cNvPr id="298" name="Oval 180" descr=""/>
            <p:cNvPicPr/>
            <p:nvPr/>
          </p:nvPicPr>
          <p:blipFill>
            <a:blip r:embed="rId8"/>
            <a:stretch/>
          </p:blipFill>
          <p:spPr>
            <a:xfrm>
              <a:off x="5796000" y="3068640"/>
              <a:ext cx="38268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5859720" y="3132000"/>
              <a:ext cx="251640" cy="2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800" spc="-1" strike="noStrike">
                  <a:solidFill>
                    <a:srgbClr val="ffffff"/>
                  </a:solidFill>
                  <a:latin typeface="Wingdings 2"/>
                  <a:ea typeface="Wingdings 2"/>
                </a:rPr>
                <a:t>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0" y="65530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SPI Romania 2007 Annual 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796000" y="393372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 Platform Imp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 processing of large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-15 key projects/year (€20k/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: 0.5% of annual gains for banking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Platform domestic sustainability i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-private governance and “Better Regulation” tools extend country’s reform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 Committee becomes country’s reform “champ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-agency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“Better Regulation” Technical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I Examples: Prudential IFRS, stress-testing, capital adequacy,…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reform teams draw on industry expert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ties associated throughout analytic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participants acquire “right of initiativ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ject to authorities’ non-obj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hing”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ies will launch moderniz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accepted analytical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, “Basel Core Principles for Banking Supervis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ization ranks lower tha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used proxy: “Regulatory Guilloti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 participants will recognize modernization opportunities are within reach of collective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will overcome coordination problems and initiate strengthening of analytical and advocacy activities to engag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34840" indent="-376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process (governance obstacles, poor track record of value for investment in ideas, weak dialogue framewor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authorities undertake moder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pheral objective to core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needs are broad, diverse and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rengthen Banking Assoc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 in analytical capacity unsustainable unless quick results accrue through dialogue with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hape public-private dialo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undertaking of a modernization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ance suited to inter-institutional co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ng Associations grow as trusted dialogue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ities could outsource analytics on most steps of non-core decisions based on “Better Reg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8600" y="3962520"/>
            <a:ext cx="87631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talyzing Modernization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 for Public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EU Neighborhood                         Financial Modernization Initi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600200"/>
            <a:ext cx="8001000" cy="106884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 Neighbors Modernization          Public-Private Steering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3048120"/>
            <a:ext cx="2895840" cy="52056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I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28600" y="4876920"/>
            <a:ext cx="289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876920"/>
            <a:ext cx="289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95880" y="4876920"/>
            <a:ext cx="3048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U N Country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4648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676520" y="48006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5902200"/>
            <a:ext cx="13716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ing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201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67652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0" y="4800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219320" y="532440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3152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14800" y="5334120"/>
            <a:ext cx="685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495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057400" y="4038480"/>
            <a:ext cx="5029200" cy="398880"/>
          </a:xfrm>
          <a:prstGeom prst="rect">
            <a:avLst/>
          </a:prstGeom>
          <a:solidFill>
            <a:srgbClr val="f4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Technical As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720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733920" y="590220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ncial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257800" y="5902200"/>
            <a:ext cx="1447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U Sponsors’ Vantage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9372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Com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local authorities extend engagement beyond stability into market efficiency iss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ransparent and cost-efficient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stering “Better Regulation”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uropean Banking 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ibute banking and policy analysis expertise to help solve under-attended efficiency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ing EU institutions assistance in area of comparative advant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ing growth of its Associate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nefits for Associate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u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sector becomes more growth-suppor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upport economic rebound after 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s much broader work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 with EU Assoc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anking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business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ory optimization helps with cost effici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product choice offers new opportun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240" y="106668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eminars with EU institutions to deepen understanding of SPI Platform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with own mandates and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bility to future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dence from market participants of unmet modernization needs in EU neighboring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from Associate Members very us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of EBF members’ technical assistance capabil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BF proposal to European Commission for EU Neighborhood Financial Modernization Initi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23888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28600" y="1447920"/>
            <a:ext cx="861048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unched in 2005 by the World Bank with support from Italy’s Ministry of Economy and Finance,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gence Pro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mot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sector moderniz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South-East Europe through public-private sector co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 a “BOT” concept (Build-Operate-Transfer), the Convergence Program helps authorities and market participants set up and operate a partnership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ose governance, organization and “Better Regulation” analytical methods enable the pursuit of a broad-based modernization program largely executed by local public-private te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is intended that local stakeholders take operational and financial responsibility for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 Plat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fter a two-year Convergence Program invol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vergence Program has been active in Albania, Bulgaria, Croatia and Romania. It has ongoing discussions in Moldova and Serbia. Its mandate, renewed in December 2007, ends in 2009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onvergence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presentation Gap In Key Marke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52880"/>
            <a:ext cx="7632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257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781680" y="62485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4572000"/>
            <a:ext cx="175248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Dome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572000"/>
            <a:ext cx="190512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952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U Harm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4572000"/>
            <a:ext cx="1828800" cy="15238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62326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00600" y="609588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3203640"/>
            <a:ext cx="1066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200400"/>
            <a:ext cx="1828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1219320"/>
            <a:ext cx="175284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219320"/>
            <a:ext cx="18288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 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1219320"/>
            <a:ext cx="1676520" cy="82548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BF AC 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010280" y="3200400"/>
            <a:ext cx="1371600" cy="459720"/>
          </a:xfrm>
          <a:prstGeom prst="rect">
            <a:avLst/>
          </a:prstGeom>
          <a:solidFill>
            <a:srgbClr val="f4fd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365760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562720" y="205740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4956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2438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2133720"/>
            <a:ext cx="0" cy="1066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781680" y="5105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 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72400" y="3657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971800"/>
            <a:ext cx="2133720" cy="10688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itution Building i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BF Associate Countr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8390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ssion supports EBF AC supervis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 €3 million program in Ukra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B supports AC Central Ba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n Russia, Serbia, Bosnia-Herzegovina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supports AC Bank Associ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behind in public-privat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ould outside resources stimulate authorities to make more use of banking sector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ttangolo 4"/>
          <p:cNvSpPr/>
          <p:nvPr/>
        </p:nvSpPr>
        <p:spPr>
          <a:xfrm>
            <a:off x="76320" y="685800"/>
            <a:ext cx="3809880" cy="58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country accounting standards with international 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ake financial statements' certification mandatory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professional accountants'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credit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redit bureaus'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bureaus to contain both positive and negative infor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provide personal information to credit bureaus without con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effectively monitor the activities of the borr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tailored scoring systems for micro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bank internal rating procedur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a Corporate Banking Information datas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s to share information about custom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formation flow among banks belonging to a gro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oss-border exchange of information between burea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microcredit guarantee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redit 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letters of 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investment banking services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S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access to non-bank lenders' and creditors' data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personal data protec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land regis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land registries' access polic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bank guaran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ersonal wage assig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consumption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tax and utilities bank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ertify real estate assess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real estate assess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young peop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public guarantees for women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ttangolo 7"/>
          <p:cNvSpPr/>
          <p:nvPr/>
        </p:nvSpPr>
        <p:spPr>
          <a:xfrm>
            <a:off x="76320" y="685800"/>
            <a:ext cx="380988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sellaDiTesto 9"/>
          <p:cNvSpPr/>
          <p:nvPr/>
        </p:nvSpPr>
        <p:spPr>
          <a:xfrm>
            <a:off x="0" y="380880"/>
            <a:ext cx="380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formational asymme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ttangolo 5"/>
          <p:cNvSpPr/>
          <p:nvPr/>
        </p:nvSpPr>
        <p:spPr>
          <a:xfrm>
            <a:off x="3962520" y="685800"/>
            <a:ext cx="251460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access to international funding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up-to-date regulation of OTC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competition among market provid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eate new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Update existing network facil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IT constrai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geographical ar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lude new population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gulate financi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uild public authorities' skills on advanced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project financ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group len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microcredit sche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bank secured corporate bo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standardized pay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potential market particip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eas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factoring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venture capit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rivate equity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derivatives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asset manage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/L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life insurance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pension fu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ecurit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d develop stock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tudents' loa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s b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mortgage insu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ttangolo 9"/>
          <p:cNvSpPr/>
          <p:nvPr/>
        </p:nvSpPr>
        <p:spPr>
          <a:xfrm>
            <a:off x="3962520" y="685800"/>
            <a:ext cx="236196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asellaDiTesto 11"/>
          <p:cNvSpPr/>
          <p:nvPr/>
        </p:nvSpPr>
        <p:spPr>
          <a:xfrm>
            <a:off x="3581280" y="425520"/>
            <a:ext cx="289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Incompleteness of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3"/>
          <p:cNvSpPr/>
          <p:nvPr/>
        </p:nvSpPr>
        <p:spPr>
          <a:xfrm>
            <a:off x="6400800" y="685800"/>
            <a:ext cx="274320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fi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bank offic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financial skills to public author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raining to judges about advanced financial iss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bank branch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AT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the number of specialized cou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form bankruptc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simplification / standardization of financial contra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international contractual for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ow contracts specifically tailored for financial product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investors’ / creditors' prot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better interface between real and financial mark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simple / standardized legal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lement efficient credit recovery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arbitration procedures (previously agreed upon by counterpar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pre-trial settlement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firms / associations of firms and financial institutions /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technical assistance to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associations of consumers and  association of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2"/>
          <p:cNvSpPr/>
          <p:nvPr/>
        </p:nvSpPr>
        <p:spPr>
          <a:xfrm>
            <a:off x="640080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sellaDiTesto 12"/>
          <p:cNvSpPr/>
          <p:nvPr/>
        </p:nvSpPr>
        <p:spPr>
          <a:xfrm>
            <a:off x="6172200" y="45720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access to financial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ttangolo 4"/>
          <p:cNvSpPr/>
          <p:nvPr/>
        </p:nvSpPr>
        <p:spPr>
          <a:xfrm>
            <a:off x="5603760" y="685800"/>
            <a:ext cx="2625840" cy="59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antitrust authority, with the power to investigate financial institutions and enforce antitrust regulation, and veto power over M&amp;A operations in the financial s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nhance Antitrust Authority indepen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 international standards on antitrust regul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transparent criteria to identify abusive dominant posi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interaction between the antitrust authority and the national associations of banks and fi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prospective 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ften limits on interest r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commissions on payment instru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upport competitive risk / lending polic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parate lending from account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nk deposit insurance premiums to risk pro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quick and efficient licensing procedures for international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etitive market procedures for the acquisition of distressed national banks / financi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gn bilateral agreements to allow foreign licensed institutions to operate in the national mark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antitrust law to international standards regarding advertis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rrect information to the publ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iberalize mortgage insurance marke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ttangolo 7"/>
          <p:cNvSpPr/>
          <p:nvPr/>
        </p:nvSpPr>
        <p:spPr>
          <a:xfrm>
            <a:off x="5562720" y="685800"/>
            <a:ext cx="274320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0"/>
          <p:cNvSpPr/>
          <p:nvPr/>
        </p:nvSpPr>
        <p:spPr>
          <a:xfrm>
            <a:off x="5562720" y="457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Lack of compet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ttangolo 11"/>
          <p:cNvSpPr/>
          <p:nvPr/>
        </p:nvSpPr>
        <p:spPr>
          <a:xfrm>
            <a:off x="609480" y="685800"/>
            <a:ext cx="3810240" cy="56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core principles for payment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avor the development of new payment instruments (mobile phon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payment orders'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payment orders' procedure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documentation for international pay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reporting and registration procedures of international loa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mprove IT infrastruct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for credit c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tup an efficient network of electronic branches (A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local networks to international stand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computer purchasing incenti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ovide computer science edu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user friendly bank web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 network secu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fine cooperation schemes with Po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insurance schemes for on line transa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crease remuneration on mandatory provis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sign bank governance rules consistent with company la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armonize financial markets' rules across product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Modernize documentation f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plify bank account opening procedu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move filters non-consistent with Basel I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corporat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payment of insurance fees on deposits by corporate cli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forfeit busines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loan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dopt international standards on working week d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ptimize consumer protection la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void duplication in mandatory documentation for consum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tandardize mortgage contractual 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Reduce stamp duties on mortgage contra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ND MANY MANY M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8"/>
          <p:cNvSpPr/>
          <p:nvPr/>
        </p:nvSpPr>
        <p:spPr>
          <a:xfrm>
            <a:off x="609480" y="380880"/>
            <a:ext cx="3810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Transaction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ttangolo 13"/>
          <p:cNvSpPr/>
          <p:nvPr/>
        </p:nvSpPr>
        <p:spPr>
          <a:xfrm>
            <a:off x="609480" y="685800"/>
            <a:ext cx="3810240" cy="60944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sellaDiTesto 5"/>
          <p:cNvSpPr/>
          <p:nvPr/>
        </p:nvSpPr>
        <p:spPr>
          <a:xfrm>
            <a:off x="0" y="-76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NANCIAL MODERNIZATION OPPORT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inancial Modernization Challe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1818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63244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urce: Marco Spallone, “Conceptual Framework to Assess Financial Modernization Needs”, Bari, 7 Nov 200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ubstituent număr diapozitiv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98FFA-4DE5-4CF0-A412-570B9619776A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1981080" y="1371600"/>
            <a:ext cx="5410440" cy="990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Public-Private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ntral Bank - Banking Association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stry of Finance - Consumer Pro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55640" y="2743200"/>
            <a:ext cx="2598840" cy="3633840"/>
            <a:chOff x="755640" y="2743200"/>
            <a:chExt cx="2598840" cy="3633840"/>
          </a:xfrm>
        </p:grpSpPr>
        <p:sp>
          <p:nvSpPr>
            <p:cNvPr id="149" name="Line 29"/>
            <p:cNvSpPr/>
            <p:nvPr/>
          </p:nvSpPr>
          <p:spPr>
            <a:xfrm flipV="1">
              <a:off x="755640" y="2743200"/>
              <a:ext cx="198756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762120" y="3505320"/>
              <a:ext cx="2592360" cy="2871720"/>
              <a:chOff x="762120" y="3505320"/>
              <a:chExt cx="2592360" cy="2871720"/>
            </a:xfrm>
          </p:grpSpPr>
          <p:sp>
            <p:nvSpPr>
              <p:cNvPr id="151" name="Text Box 45"/>
              <p:cNvSpPr/>
              <p:nvPr/>
            </p:nvSpPr>
            <p:spPr>
              <a:xfrm>
                <a:off x="762120" y="3505320"/>
                <a:ext cx="2592360" cy="2871720"/>
              </a:xfrm>
              <a:prstGeom prst="rect">
                <a:avLst/>
              </a:prstGeom>
              <a:solidFill>
                <a:srgbClr val="00ffff">
                  <a:alpha val="14000"/>
                </a:srgbClr>
              </a:solidFill>
              <a:ln cap="rnd" w="22320">
                <a:solidFill>
                  <a:srgbClr val="ff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6"/>
              <p:cNvSpPr/>
              <p:nvPr/>
            </p:nvSpPr>
            <p:spPr>
              <a:xfrm>
                <a:off x="900000" y="5516640"/>
                <a:ext cx="2449800" cy="7905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ublic and Private Exper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1332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7"/>
              <p:cNvSpPr/>
              <p:nvPr/>
            </p:nvSpPr>
            <p:spPr>
              <a:xfrm>
                <a:off x="1332000" y="3860640"/>
                <a:ext cx="1728720" cy="503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Owner 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3"/>
              <p:cNvSpPr/>
              <p:nvPr/>
            </p:nvSpPr>
            <p:spPr>
              <a:xfrm flipV="1">
                <a:off x="2195640" y="530028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8"/>
              <p:cNvSpPr/>
              <p:nvPr/>
            </p:nvSpPr>
            <p:spPr>
              <a:xfrm flipV="1">
                <a:off x="2195640" y="4436640"/>
                <a:ext cx="0" cy="14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"/>
          <p:cNvGrpSpPr/>
          <p:nvPr/>
        </p:nvGrpSpPr>
        <p:grpSpPr>
          <a:xfrm>
            <a:off x="3492360" y="2819160"/>
            <a:ext cx="5472360" cy="3552840"/>
            <a:chOff x="3492360" y="2819160"/>
            <a:chExt cx="5472360" cy="3552840"/>
          </a:xfrm>
        </p:grpSpPr>
        <p:grpSp>
          <p:nvGrpSpPr>
            <p:cNvPr id="158" name=""/>
            <p:cNvGrpSpPr/>
            <p:nvPr/>
          </p:nvGrpSpPr>
          <p:grpSpPr>
            <a:xfrm>
              <a:off x="3492360" y="3123720"/>
              <a:ext cx="2592360" cy="3248280"/>
              <a:chOff x="3492360" y="3123720"/>
              <a:chExt cx="2592360" cy="3248280"/>
            </a:xfrm>
          </p:grpSpPr>
          <p:grpSp>
            <p:nvGrpSpPr>
              <p:cNvPr id="159" name=""/>
              <p:cNvGrpSpPr/>
              <p:nvPr/>
            </p:nvGrpSpPr>
            <p:grpSpPr>
              <a:xfrm>
                <a:off x="3492360" y="3500280"/>
                <a:ext cx="2592360" cy="2871720"/>
                <a:chOff x="3492360" y="3500280"/>
                <a:chExt cx="2592360" cy="2871720"/>
              </a:xfrm>
            </p:grpSpPr>
            <p:sp>
              <p:nvSpPr>
                <p:cNvPr id="160" name="Text Box 46"/>
                <p:cNvSpPr/>
                <p:nvPr/>
              </p:nvSpPr>
              <p:spPr>
                <a:xfrm>
                  <a:off x="349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8"/>
                <p:cNvSpPr/>
                <p:nvPr/>
              </p:nvSpPr>
              <p:spPr>
                <a:xfrm>
                  <a:off x="356400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18"/>
                <p:cNvSpPr/>
                <p:nvPr/>
              </p:nvSpPr>
              <p:spPr>
                <a:xfrm>
                  <a:off x="378000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9"/>
                <p:cNvSpPr/>
                <p:nvPr/>
              </p:nvSpPr>
              <p:spPr>
                <a:xfrm flipV="1">
                  <a:off x="4716360" y="443664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Rectangle 14"/>
              <p:cNvSpPr/>
              <p:nvPr/>
            </p:nvSpPr>
            <p:spPr>
              <a:xfrm>
                <a:off x="3780000" y="4724280"/>
                <a:ext cx="1728720" cy="503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roject Manager 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21"/>
              <p:cNvSpPr/>
              <p:nvPr/>
            </p:nvSpPr>
            <p:spPr>
              <a:xfrm flipV="1">
                <a:off x="4724280" y="312372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34"/>
              <p:cNvSpPr/>
              <p:nvPr/>
            </p:nvSpPr>
            <p:spPr>
              <a:xfrm flipV="1">
                <a:off x="4716360" y="5300280"/>
                <a:ext cx="0" cy="14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6012000" y="2819160"/>
              <a:ext cx="2952720" cy="3552840"/>
              <a:chOff x="6012000" y="2819160"/>
              <a:chExt cx="2952720" cy="3552840"/>
            </a:xfrm>
          </p:grpSpPr>
          <p:sp>
            <p:nvSpPr>
              <p:cNvPr id="168" name="Line 22"/>
              <p:cNvSpPr/>
              <p:nvPr/>
            </p:nvSpPr>
            <p:spPr>
              <a:xfrm flipH="1" flipV="1">
                <a:off x="6552720" y="2819160"/>
                <a:ext cx="205740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6012000" y="3500280"/>
                <a:ext cx="2952720" cy="2871720"/>
                <a:chOff x="6012000" y="3500280"/>
                <a:chExt cx="2952720" cy="2871720"/>
              </a:xfrm>
            </p:grpSpPr>
            <p:sp>
              <p:nvSpPr>
                <p:cNvPr id="170" name="Text Box 47"/>
                <p:cNvSpPr/>
                <p:nvPr/>
              </p:nvSpPr>
              <p:spPr>
                <a:xfrm>
                  <a:off x="6372360" y="3500280"/>
                  <a:ext cx="2592360" cy="2871720"/>
                </a:xfrm>
                <a:prstGeom prst="rect">
                  <a:avLst/>
                </a:prstGeom>
                <a:solidFill>
                  <a:srgbClr val="00ffff">
                    <a:alpha val="14000"/>
                  </a:srgbClr>
                </a:solidFill>
                <a:ln cap="rnd" w="22320">
                  <a:solidFill>
                    <a:srgbClr val="ff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9"/>
                <p:cNvSpPr/>
                <p:nvPr/>
              </p:nvSpPr>
              <p:spPr>
                <a:xfrm>
                  <a:off x="6443640" y="5516640"/>
                  <a:ext cx="2449440" cy="79056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ublic and Private Experts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Text Box 10"/>
                <p:cNvSpPr/>
                <p:nvPr/>
              </p:nvSpPr>
              <p:spPr>
                <a:xfrm>
                  <a:off x="6012000" y="558972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Rectangle 15"/>
                <p:cNvSpPr/>
                <p:nvPr/>
              </p:nvSpPr>
              <p:spPr>
                <a:xfrm>
                  <a:off x="6732720" y="4724280"/>
                  <a:ext cx="1728720" cy="5032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Manag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Text Box 16"/>
                <p:cNvSpPr/>
                <p:nvPr/>
              </p:nvSpPr>
              <p:spPr>
                <a:xfrm>
                  <a:off x="6012000" y="472428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9"/>
                <p:cNvSpPr/>
                <p:nvPr/>
              </p:nvSpPr>
              <p:spPr>
                <a:xfrm>
                  <a:off x="6732720" y="3860640"/>
                  <a:ext cx="1728720" cy="503280"/>
                </a:xfrm>
                <a:prstGeom prst="rect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oject Owner 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Text Box 23"/>
                <p:cNvSpPr/>
                <p:nvPr/>
              </p:nvSpPr>
              <p:spPr>
                <a:xfrm>
                  <a:off x="6012000" y="4005360"/>
                  <a:ext cx="431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35"/>
                <p:cNvSpPr/>
                <p:nvPr/>
              </p:nvSpPr>
              <p:spPr>
                <a:xfrm flipV="1">
                  <a:off x="7740720" y="530028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40"/>
                <p:cNvSpPr/>
                <p:nvPr/>
              </p:nvSpPr>
              <p:spPr>
                <a:xfrm flipV="1">
                  <a:off x="7667640" y="450864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9" name="Text Box 44"/>
          <p:cNvSpPr/>
          <p:nvPr/>
        </p:nvSpPr>
        <p:spPr>
          <a:xfrm>
            <a:off x="1042920" y="3500280"/>
            <a:ext cx="23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079640" y="6453360"/>
            <a:ext cx="8064360" cy="436680"/>
            <a:chOff x="1079640" y="6453360"/>
            <a:chExt cx="8064360" cy="436680"/>
          </a:xfrm>
        </p:grpSpPr>
        <p:sp>
          <p:nvSpPr>
            <p:cNvPr id="181" name="Text Box 49"/>
            <p:cNvSpPr/>
            <p:nvPr/>
          </p:nvSpPr>
          <p:spPr>
            <a:xfrm>
              <a:off x="1079640" y="6491160"/>
              <a:ext cx="806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OLUTION FINDING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(Through RIA-based public-private consulta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48"/>
            <p:cNvSpPr/>
            <p:nvPr/>
          </p:nvSpPr>
          <p:spPr>
            <a:xfrm rot="5400000">
              <a:off x="4644360" y="3067560"/>
              <a:ext cx="142560" cy="6913440"/>
            </a:xfrm>
            <a:custGeom>
              <a:avLst/>
              <a:gdLst>
                <a:gd name="textAreaLeft" fmla="*/ 0 w 142560"/>
                <a:gd name="textAreaRight" fmla="*/ 51480 w 142560"/>
                <a:gd name="textAreaTop" fmla="*/ 180000 h 6913440"/>
                <a:gd name="textAreaBottom" fmla="*/ 6733440 h 69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 Box 50"/>
          <p:cNvSpPr/>
          <p:nvPr/>
        </p:nvSpPr>
        <p:spPr>
          <a:xfrm>
            <a:off x="0" y="974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GRAM SETTING,  SOLUTION ENDORSEMENT AND ENACTMENT MONITO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: The SPI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819520" y="2290680"/>
            <a:ext cx="3673440" cy="834840"/>
            <a:chOff x="2819520" y="2290680"/>
            <a:chExt cx="3673440" cy="834840"/>
          </a:xfrm>
        </p:grpSpPr>
        <p:grpSp>
          <p:nvGrpSpPr>
            <p:cNvPr id="186" name=""/>
            <p:cNvGrpSpPr/>
            <p:nvPr/>
          </p:nvGrpSpPr>
          <p:grpSpPr>
            <a:xfrm>
              <a:off x="2819520" y="2604960"/>
              <a:ext cx="3673440" cy="520560"/>
              <a:chOff x="2819520" y="2604960"/>
              <a:chExt cx="3673440" cy="520560"/>
            </a:xfrm>
          </p:grpSpPr>
          <p:sp>
            <p:nvSpPr>
              <p:cNvPr id="187" name="Rectangle 24"/>
              <p:cNvSpPr/>
              <p:nvPr/>
            </p:nvSpPr>
            <p:spPr>
              <a:xfrm rot="5400000">
                <a:off x="4440240" y="983880"/>
                <a:ext cx="431640" cy="367344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28"/>
              <p:cNvSpPr/>
              <p:nvPr/>
            </p:nvSpPr>
            <p:spPr>
              <a:xfrm>
                <a:off x="3352680" y="2604960"/>
                <a:ext cx="2881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PI Secretaria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Line 21"/>
            <p:cNvSpPr/>
            <p:nvPr/>
          </p:nvSpPr>
          <p:spPr>
            <a:xfrm flipV="1">
              <a:off x="4716360" y="22906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104292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35280" y="350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16720" y="3500280"/>
            <a:ext cx="23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roject Working Grou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0"/>
          <p:cNvSpPr/>
          <p:nvPr/>
        </p:nvSpPr>
        <p:spPr>
          <a:xfrm>
            <a:off x="1600200" y="2997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OJECT MANAGEMENT AND CONSENSUS-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I Romania Has Mobilized &gt; 120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ine 39" descr="pic05006.gif"/>
          <p:cNvPicPr/>
          <p:nvPr/>
        </p:nvPicPr>
        <p:blipFill>
          <a:blip r:embed="rId1"/>
          <a:stretch/>
        </p:blipFill>
        <p:spPr>
          <a:xfrm>
            <a:off x="900000" y="115920"/>
            <a:ext cx="7344000" cy="1152360"/>
          </a:xfrm>
          <a:prstGeom prst="rect">
            <a:avLst/>
          </a:prstGeom>
          <a:ln w="0">
            <a:noFill/>
          </a:ln>
        </p:spPr>
      </p:pic>
      <p:sp>
        <p:nvSpPr>
          <p:cNvPr id="196" name="Substituent conținut 2"/>
          <p:cNvSpPr/>
          <p:nvPr/>
        </p:nvSpPr>
        <p:spPr>
          <a:xfrm>
            <a:off x="611280" y="1916280"/>
            <a:ext cx="4357440" cy="42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National Bank of Rom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sumers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te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istry of Econo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inistry of Agricultur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nd Rur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stry of Interior and Administration Re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nt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Mon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 Laundering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ransF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edit Bur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Authority for the Supervision of Personal Data Process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ural Credit Guarantee Fu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rading Commission for C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stibl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Seed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Commoditie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omanian Stock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tional Securities Co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National Association for Consumers’ Protection and Promotion of Programs and Strateg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 from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alian Banking Assoc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E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nternational Financ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World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6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setăText 8"/>
          <p:cNvSpPr/>
          <p:nvPr/>
        </p:nvSpPr>
        <p:spPr>
          <a:xfrm>
            <a:off x="4800600" y="1957320"/>
            <a:ext cx="3517920" cy="49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Arial"/>
              </a:rPr>
              <a:t>Romanian Banking 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iffeisen Banca pentru Locuin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TP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nc P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pha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D-GS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Ţiria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B Romanian International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redit Europ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G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iti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M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 Bank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face Rom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arg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KPM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Deloit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ifford 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Algorit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Bear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Financial Ombudsman Service, U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odwood Financial Consul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59280" y="2565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04920" y="1268280"/>
            <a:ext cx="84582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20:12:01Z</dcterms:created>
  <dc:creator>wb76399</dc:creator>
  <dc:description/>
  <dc:language>en-US</dc:language>
  <cp:lastModifiedBy>WB76399</cp:lastModifiedBy>
  <dcterms:modified xsi:type="dcterms:W3CDTF">2008-12-04T09:27:46Z</dcterms:modified>
  <cp:revision>62</cp:revision>
  <dc:subject/>
  <dc:title>Slide 1</dc:title>
</cp:coreProperties>
</file>